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577A-3AE7-4332-BF51-EEC854217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5B63-647C-4FC0-9D8D-F5B0C4B1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3A73-B84A-4483-A667-1E74F990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C5BF-AA59-4E68-B542-DB7C9BF2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CBCE8-D559-4A23-9FFF-ACB9A1B43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2ADF-2239-4CC3-B5FF-D9E0AD63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5D01-CA52-4915-B165-BFCCC8A5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113E-B3F1-4FC0-B744-D0400C4B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F85C-3115-43E3-A8C0-B86D2452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D011-AB2E-4040-8902-18873A9A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4863-C798-487D-9A97-795A749A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E791-B8D2-4429-8680-515C1AA7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F125-0D49-4F36-8F99-7A11BE4A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8479-800F-4994-BA2E-F6CA8221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3613-457A-4D07-9B74-DB623F66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EBC8-5A18-4828-8367-335B25537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3144-E9D6-4361-80E1-2D005E405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90489-D386-4D0B-BAF8-3C5940AC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5379D-1703-4347-BE13-C48DBF1B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C63AE-3F4F-4D76-A6E5-A0A6CFF4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A5A18-88CF-4791-97BA-1571DCD8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8C518-8A58-4351-BFB1-BD32ED398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8A97-7696-47AF-B015-A8A2D972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B53EC-3433-498A-9B82-E598E6DF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12B14-E7C8-4453-AA05-8526DB93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A220C-D393-445C-A053-A651F52D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FBA5F-4F16-4DFB-BAAE-E7B53BBC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719D8-DAB9-49FB-BA61-3FA03D79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49883-0251-42E7-90E9-2115CA6E1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4C8EE-EB32-46F5-A4DD-CFD63877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8EEE1-432D-44A1-B577-C2B647EF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FE063-0894-4A0E-B9E0-210401A4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55D01-9B67-4A66-9DEE-9082B29A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9E85-55B5-4516-BCA1-FE9F46EF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6DC95-3B31-4B17-8261-F6AD329BD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CE924-F0CD-44B4-878B-08A441ED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40D96-D789-4FE8-BCA7-8AFC431B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01EB3-31B1-4EAC-9D41-529236A75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D28DA-E048-45C7-A083-B37EBD5D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B711F-2A68-45B3-B648-7A99ECB9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EF7B3-A55C-4B35-9AE6-58624B0D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FCE90-557D-4A4E-9CEC-4B8AD3ED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24B3A-B330-4173-971B-1921CAA2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0416F-99C8-4A24-8BF5-46FC75F48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155C-3BCD-49EA-B499-3254D65D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BC26B-15B9-49B6-A2D3-BD5F728D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36BC1-0418-49AC-B343-60EE28F0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44318-9EC0-4C62-B5A9-BFE24229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E4F17-C78F-49E4-8207-1E4B2E8E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C6CBB-8165-476D-A0B4-8F9B1C998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266D0-08A1-4DA8-9302-EAB7DE23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5D5EF-8898-4574-B93B-5AC0E0B8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8594E-DF78-4BE7-B003-15BB90C1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E4A46-95BB-4D05-9190-F4738B85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1B8FE9-2BA9-4388-B61D-81F9413E1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78A9-E88E-4085-B176-3935932D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9007A-2D74-4E78-AD1A-531D16D2B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FE0E-3B92-4608-977D-4704E7BB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B1EB-82B4-4153-9265-1D15B6C2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0EDE-AF24-4667-AB3D-33ECB740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76040"/>
            <a:ext cx="914256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C2B8E1-2DBA-4BF8-8F04-84E82FB8A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-4680" y="2058840"/>
            <a:ext cx="914724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ABF5B-DB9C-4EDC-9470-00006A09F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-4680" y="2058840"/>
            <a:ext cx="9147240" cy="1828800"/>
          </a:xfrm>
          <a:prstGeom prst="rect">
            <a:avLst/>
          </a:prstGeom>
          <a:solidFill>
            <a:srgbClr val="099b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99b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BC4B4-390C-48F3-BEEF-3DB34D36BF37}" type="slidenum">
              <a:rPr b="0" lang="en-US" sz="1200" spc="-1" strike="noStrike">
                <a:solidFill>
                  <a:srgbClr val="099bd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EB3D8C-51F8-4B90-BA8D-70FF9AB8A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6764400" y="0"/>
            <a:ext cx="2057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28200" y="64231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2832120" y="6423120"/>
            <a:ext cx="32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054840" y="6423120"/>
            <a:ext cx="660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52634-305F-4A0D-956E-E5F943F7FA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74680" y="2166480"/>
            <a:ext cx="8602560" cy="17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99bdd"/>
                </a:solidFill>
                <a:latin typeface="Corbel"/>
              </a:rPr>
              <a:t>SKY SOLUTIONS</a:t>
            </a:r>
            <a:endParaRPr b="0" lang="en-US" sz="6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143000" y="3970440"/>
            <a:ext cx="685800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cident Respons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rain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br>
              <a:rPr sz="4000"/>
            </a:b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RISK ANALYSI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Risk Categories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reak-i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reak-in in a single system at NASA delayed a launch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ystem was mission critical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Needed to be recertified before launch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Unauthorized execution of programs or command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ivilege Escalatio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xploitation of CGI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Web servers have frequently cgi scripts installed for demonstration purposes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se have known weaknesse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br>
              <a:rPr sz="4000"/>
            </a:b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RISK ANALYSI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enial of Service attack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Web Defacemen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irus and worm attack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alicious active conten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ack door attack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poof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ssion tampering, hijacking, replay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br>
              <a:rPr sz="4000"/>
            </a:b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RISK ANALYSI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etermining Risk Probabiliti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ollect data within the organization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ollect data by other organization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ERT Coordinating Center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National Infrastructure Protection Center NPIC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ulnerability Analysi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ERT, ALLDAS, ANTIONLIN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METHODOLOG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tructure and Organiz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cidents create pandemonium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cidents occur in burst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fficiency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acilitates the process of responding to incidents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acilitates dealing with the unexpected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Legal Considerations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"/>
          <p:cNvSpPr/>
          <p:nvPr/>
        </p:nvSpPr>
        <p:spPr>
          <a:xfrm>
            <a:off x="520560" y="917640"/>
            <a:ext cx="81550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99bdd"/>
                </a:solidFill>
                <a:latin typeface="Corbel"/>
                <a:ea typeface="Calibri"/>
              </a:rPr>
              <a:t>INCIDENT RESPONSE PLAN (IRP)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533520" y="198108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25252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paratio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AutoShape 6"/>
          <p:cNvSpPr/>
          <p:nvPr/>
        </p:nvSpPr>
        <p:spPr>
          <a:xfrm>
            <a:off x="625320" y="281952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25252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icatio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681120" y="3490920"/>
            <a:ext cx="1371600" cy="606240"/>
          </a:xfrm>
          <a:prstGeom prst="roundRect">
            <a:avLst>
              <a:gd name="adj" fmla="val 16667"/>
            </a:avLst>
          </a:prstGeom>
          <a:solidFill>
            <a:srgbClr val="25252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inmen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amp; Escalatio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625320" y="4321080"/>
            <a:ext cx="1447920" cy="685800"/>
          </a:xfrm>
          <a:prstGeom prst="roundRect">
            <a:avLst>
              <a:gd name="adj" fmla="val 16667"/>
            </a:avLst>
          </a:prstGeom>
          <a:solidFill>
            <a:srgbClr val="25252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sis &amp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adicatio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AutoShape 9"/>
          <p:cNvSpPr/>
          <p:nvPr/>
        </p:nvSpPr>
        <p:spPr>
          <a:xfrm>
            <a:off x="655560" y="5278320"/>
            <a:ext cx="1371600" cy="533520"/>
          </a:xfrm>
          <a:prstGeom prst="roundRect">
            <a:avLst>
              <a:gd name="adj" fmla="val 16667"/>
            </a:avLst>
          </a:prstGeom>
          <a:solidFill>
            <a:srgbClr val="25252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AutoShape 10"/>
          <p:cNvSpPr/>
          <p:nvPr/>
        </p:nvSpPr>
        <p:spPr>
          <a:xfrm>
            <a:off x="685800" y="6012000"/>
            <a:ext cx="1341360" cy="533160"/>
          </a:xfrm>
          <a:prstGeom prst="roundRect">
            <a:avLst>
              <a:gd name="adj" fmla="val 16667"/>
            </a:avLst>
          </a:prstGeom>
          <a:solidFill>
            <a:srgbClr val="25252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rned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250" name="AutoShape 11"/>
          <p:cNvCxnSpPr>
            <a:stCxn id="244" idx="2"/>
            <a:endCxn id="245" idx="0"/>
          </p:cNvCxnSpPr>
          <p:nvPr/>
        </p:nvCxnSpPr>
        <p:spPr>
          <a:xfrm flipH="1" rot="16200000">
            <a:off x="1150560" y="2620440"/>
            <a:ext cx="381960" cy="1656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1" name="AutoShape 12"/>
          <p:cNvCxnSpPr>
            <a:stCxn id="245" idx="2"/>
            <a:endCxn id="246" idx="0"/>
          </p:cNvCxnSpPr>
          <p:nvPr/>
        </p:nvCxnSpPr>
        <p:spPr>
          <a:xfrm flipH="1" rot="16200000">
            <a:off x="1249920" y="3374640"/>
            <a:ext cx="214920" cy="1836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2" name="AutoShape 13"/>
          <p:cNvCxnSpPr>
            <a:stCxn id="246" idx="2"/>
            <a:endCxn id="247" idx="0"/>
          </p:cNvCxnSpPr>
          <p:nvPr/>
        </p:nvCxnSpPr>
        <p:spPr>
          <a:xfrm rot="5400000">
            <a:off x="1245240" y="4200120"/>
            <a:ext cx="224640" cy="18360"/>
          </a:xfrm>
          <a:prstGeom prst="bentConnector3">
            <a:avLst>
              <a:gd name="adj1" fmla="val 4991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3" name="AutoShape 14"/>
          <p:cNvCxnSpPr>
            <a:stCxn id="247" idx="2"/>
            <a:endCxn id="248" idx="0"/>
          </p:cNvCxnSpPr>
          <p:nvPr/>
        </p:nvCxnSpPr>
        <p:spPr>
          <a:xfrm rot="5400000">
            <a:off x="1208880" y="5138640"/>
            <a:ext cx="272160" cy="8640"/>
          </a:xfrm>
          <a:prstGeom prst="bentConnector3">
            <a:avLst>
              <a:gd name="adj1" fmla="val 4993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4" name="AutoShape 15"/>
          <p:cNvCxnSpPr>
            <a:stCxn id="248" idx="2"/>
            <a:endCxn id="249" idx="0"/>
          </p:cNvCxnSpPr>
          <p:nvPr/>
        </p:nvCxnSpPr>
        <p:spPr>
          <a:xfrm flipH="1" rot="16200000">
            <a:off x="1248480" y="5904360"/>
            <a:ext cx="200880" cy="15120"/>
          </a:xfrm>
          <a:prstGeom prst="bentConnector3">
            <a:avLst>
              <a:gd name="adj1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5" name="Text Box 16"/>
          <p:cNvSpPr/>
          <p:nvPr/>
        </p:nvSpPr>
        <p:spPr>
          <a:xfrm>
            <a:off x="2424960" y="2093760"/>
            <a:ext cx="25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 PRIOR to Inciden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2272320" y="2909880"/>
            <a:ext cx="35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what is/has happened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2417760" y="34909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 inciden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2218680" y="433548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and remov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t cause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2421360" y="520236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urn operation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norma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2269800" y="5958000"/>
            <a:ext cx="24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 improvement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 for the futur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4724280" y="432108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25252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724280" y="5195880"/>
            <a:ext cx="1371600" cy="533520"/>
          </a:xfrm>
          <a:prstGeom prst="roundRect">
            <a:avLst>
              <a:gd name="adj" fmla="val 16667"/>
            </a:avLst>
          </a:prstGeom>
          <a:solidFill>
            <a:srgbClr val="25252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-Pos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263" name="Elbow Connector 23"/>
          <p:cNvCxnSpPr>
            <a:stCxn id="246" idx="2"/>
            <a:endCxn id="261" idx="0"/>
          </p:cNvCxnSpPr>
          <p:nvPr/>
        </p:nvCxnSpPr>
        <p:spPr>
          <a:xfrm flipH="1" rot="16200000">
            <a:off x="3275640" y="2187360"/>
            <a:ext cx="224640" cy="4043880"/>
          </a:xfrm>
          <a:prstGeom prst="bentConnector3">
            <a:avLst>
              <a:gd name="adj1" fmla="val 49919"/>
            </a:avLst>
          </a:prstGeom>
          <a:ln w="936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264" name="Straight Arrow Connector 25"/>
          <p:cNvCxnSpPr>
            <a:stCxn id="261" idx="2"/>
            <a:endCxn id="262" idx="0"/>
          </p:cNvCxnSpPr>
          <p:nvPr/>
        </p:nvCxnSpPr>
        <p:spPr>
          <a:xfrm>
            <a:off x="5409720" y="4778280"/>
            <a:ext cx="1080" cy="418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5" name="TextBox 26"/>
          <p:cNvSpPr/>
          <p:nvPr/>
        </p:nvSpPr>
        <p:spPr>
          <a:xfrm>
            <a:off x="6218640" y="4303800"/>
            <a:ext cx="17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fy any data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each victim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TextBox 27"/>
          <p:cNvSpPr/>
          <p:nvPr/>
        </p:nvSpPr>
        <p:spPr>
          <a:xfrm>
            <a:off x="2432160" y="384012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If data breach]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TextBox 11263"/>
          <p:cNvSpPr/>
          <p:nvPr/>
        </p:nvSpPr>
        <p:spPr>
          <a:xfrm>
            <a:off x="6356520" y="5222880"/>
            <a:ext cx="22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blish call center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aration activiti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METHODOLOG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repar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tting up a reasonable set of defenses and controls based on thread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reating a set of procedures to deal with the incident efficiently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Obtaining the resources and personnel to deal with the problem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Establish an infrastructure to support incident response activity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METHODOLOG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etec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trusion Detection System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etection Softwar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rbel"/>
              </a:rPr>
              <a:t>Report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9bdd"/>
                </a:solidFill>
                <a:latin typeface="Corbel"/>
                <a:ea typeface="Calibri"/>
              </a:rPr>
              <a:t>LOGS TO COLLECT &amp; MONITOR</a:t>
            </a:r>
            <a:endParaRPr b="0" lang="en-US" sz="36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273" name="Content Placeholder 3" descr=""/>
          <p:cNvPicPr/>
          <p:nvPr/>
        </p:nvPicPr>
        <p:blipFill>
          <a:blip r:embed="rId1"/>
          <a:stretch/>
        </p:blipFill>
        <p:spPr>
          <a:xfrm>
            <a:off x="407880" y="1981080"/>
            <a:ext cx="84013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MANAGEMENT METRIC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# of Reported Incident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# of Detected Incident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verage time to respond to inciden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verage time to resolve an inciden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otal number of incidents successfully resolved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roactive &amp; Preventative measures take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otal damage from reported or detected incident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otal damage if incidents had not been contained in a timely manner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METHODOLOG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ontain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rategi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hutting down a syste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Disconnect from the network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hange filtering rules of firewall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Disabling or deleting compromised account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Increasing monitoring level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tting trap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riking back at the attacker’s system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hering to containment procedure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cord all actio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fine acceptable risks in advan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Business Continuity Planning: deals wit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Outage: Due to natural disasters, electrical failures, …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Incident Response: deals wit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dverse events that threaten security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METHODOLOG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radication: Eliminate the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Corbel"/>
              </a:rPr>
              <a:t>cause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of the incident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oftware available for most virus, worm attacks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rocedures are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Corbel"/>
              </a:rPr>
              <a:t>very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important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METHODOLOG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182600" y="201744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radication in Windows System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-380880" y="2590920"/>
            <a:ext cx="5105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lvl="3" marL="415800" indent="-59400">
              <a:lnSpc>
                <a:spcPct val="100000"/>
              </a:lnSpc>
              <a:spcBef>
                <a:spcPts val="499"/>
              </a:spcBef>
              <a:buClr>
                <a:srgbClr val="a5d028"/>
              </a:buClr>
              <a:buSzPct val="55000"/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Ensure that the following have not been modified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534600" indent="-5940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urity Accounts Manager (SAM) Databas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534600" indent="-5940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534600" indent="-5940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ll .dll fil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534600" indent="-5940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ial-in setting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534600" indent="-5940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User manager for domain setting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192960" indent="-74160">
              <a:lnSpc>
                <a:spcPct val="100000"/>
              </a:lnSpc>
              <a:spcBef>
                <a:spcPts val="700"/>
              </a:spcBef>
              <a:buClr>
                <a:srgbClr val="005dba"/>
              </a:buClr>
              <a:buSzPct val="5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192960" indent="-74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3276720" y="2590920"/>
            <a:ext cx="5486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lvl="4" marL="637560" indent="-7056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ll logon script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637560" indent="-7056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 integrity of all registry keys and values below Winlogon and LSA in the registry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637560" indent="-7056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un entries in registry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637560" indent="-7056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embership in all privileged group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637560" indent="-7056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ystem and user profile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METHODOLOG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182600" y="201744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radication in Windows 2012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-380880" y="2590920"/>
            <a:ext cx="5105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2000"/>
          </a:bodyPr>
          <a:p>
            <a:pPr lvl="3" marL="351720" indent="-50040">
              <a:lnSpc>
                <a:spcPct val="100000"/>
              </a:lnSpc>
              <a:spcBef>
                <a:spcPts val="499"/>
              </a:spcBef>
              <a:buClr>
                <a:srgbClr val="a5d028"/>
              </a:buClr>
              <a:buSzPct val="55000"/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sure that the following have not been modified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452520" indent="-5004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urity Accounts Manager (SAM) Databas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452520" indent="-5004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452520" indent="-5004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 .dll fil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452520" indent="-5004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hedul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452520" indent="-5004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icy setting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452520" indent="-5004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bership in privileged group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163440" indent="-62640">
              <a:lnSpc>
                <a:spcPct val="100000"/>
              </a:lnSpc>
              <a:spcBef>
                <a:spcPts val="700"/>
              </a:spcBef>
              <a:buClr>
                <a:srgbClr val="005dba"/>
              </a:buClr>
              <a:buSzPct val="5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163440" indent="-6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3276720" y="2590920"/>
            <a:ext cx="5486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lvl="4" marL="534600" indent="-5940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 logon script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534600" indent="-5940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 security option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534600" indent="-5940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 permissions for Active Directory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534600" indent="-5940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 DNS setting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534600" indent="-5940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gistry keys and values under Winlogon and Run in the registry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534600" indent="-5940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missions and ownerships in \%systemroot%\ntds …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PENETRATION TESTING METHOD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External Testing:  Tests from outside network perimete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Internal Testing: Tests from within network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Blind Testing:  Penetration tester knows nothing in advance and must do web research on compan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Double Blind Testing: System and security administrators also are not aware of tes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Targeted Testing:  Have internal information about a target.  May have access to an account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Written permission must always be obtained first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METHODOLOG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Recovery: Return compromised systems back to its normal mission status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ecovery procedures: Safest is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ull rebuilt for system files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Restore data from last backup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ecord every action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Keep users aware of statu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METHODOLOG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Recovery: Return compromised systems back to its normal mission status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dvise appropriate people of major developments that might affect them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dhere to policy regarding media contact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eturn logging to normal level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stall patches for any exploited vulnerability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METHODOLOG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llow-Up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Perform a post mortem analysis on each significant incident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Exact description and timeline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dequacy of staff response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What information was needed at what time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What would the staff do differently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ow was interaction with management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What was the damage?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METHODOLOG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llow-Up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Use for legal reasons: forensically sound evidence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Includes monetary damage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eevaluation and modification of staff response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Example: Break-in at Human Genome database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Nobody knew who had called when more info was needed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Gap in procedure was remedied during follow-up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METHODOLOG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37720" y="2017800"/>
            <a:ext cx="81169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ummary: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ethodology is needed to deal with quickly evolving, chaotic situation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akes time to implement and to learn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Use mock events for training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tages flow into each other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ethodology needs to be tailored to situation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llow-up needed to improve and adapt methodology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br>
              <a:rPr sz="3200"/>
            </a:br>
            <a:r>
              <a:rPr b="0" lang="en-US" sz="3200" spc="-1" strike="noStrike">
                <a:solidFill>
                  <a:srgbClr val="099bdd"/>
                </a:solidFill>
                <a:latin typeface="Corbel"/>
              </a:rPr>
              <a:t>FORMING AND MANAGING AN IR-TEAM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Incident response team vs. incident handler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IA related incidents: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onfidentiality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tegrity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vailability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Other Typ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econnaissance Attack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epudiation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omeone takes action and denies it later on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br>
              <a:rPr sz="3200"/>
            </a:br>
            <a:r>
              <a:rPr b="0" lang="en-US" sz="3200" spc="-1" strike="noStrike">
                <a:solidFill>
                  <a:srgbClr val="099bdd"/>
                </a:solidFill>
                <a:latin typeface="Corbel"/>
              </a:rPr>
              <a:t>FORMING AND MANAGING AN IR-TEAM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Reasons for outsourcing: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pecialists can maintain and add to a complex skill set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pecialists can charge for service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ompany might lack resource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mall organizations do not need a team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br>
              <a:rPr sz="3200"/>
            </a:br>
            <a:r>
              <a:rPr b="0" lang="en-US" sz="3200" spc="-1" strike="noStrike">
                <a:solidFill>
                  <a:srgbClr val="099bdd"/>
                </a:solidFill>
                <a:latin typeface="Corbel"/>
              </a:rPr>
              <a:t>FORMING AND MANAGING AN IR-TEAM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Reasons for in-house incident response: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nsitive data is better handled by employee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 house team responds better to corporate culture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br>
              <a:rPr sz="4000"/>
            </a:b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WHY AN INCIDENT TEAM?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xpertise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fficiency.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bility to work proactively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bility to meet agency or corporate requirements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eams serve as liaison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bility to deal with institutional barriers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br>
              <a:rPr sz="4000"/>
            </a:b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BASIC REQUIREMENT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ontrol over incidents: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ull control over incident and data / resources involved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or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ontrol shar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or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dvisory role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br>
              <a:rPr sz="4000"/>
            </a:b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BASIC REQUIREMENT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Interagency / corporation coordination / liais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earinghous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ontingency planning and business continuity servic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Information security developmen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Incident response planning and analysi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raining and awarenes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:</a:t>
            </a:r>
            <a:br>
              <a:rPr sz="4000"/>
            </a:br>
            <a:r>
              <a:rPr b="0" lang="en-US" sz="3200" spc="-1" strike="noStrike">
                <a:solidFill>
                  <a:srgbClr val="099bdd"/>
                </a:solidFill>
                <a:latin typeface="Corbel"/>
              </a:rPr>
              <a:t>DETERMINING / DEALING WITH CONSTITUENCY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Identify constituency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ys Ads are different than general user popul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ailure of dealing adequately with constituency leads to long-term failur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:</a:t>
            </a:r>
            <a:br>
              <a:rPr sz="4000"/>
            </a:br>
            <a:r>
              <a:rPr b="0" lang="en-US" sz="3200" spc="-1" strike="noStrike">
                <a:solidFill>
                  <a:srgbClr val="099bdd"/>
                </a:solidFill>
                <a:latin typeface="Corbel"/>
              </a:rPr>
              <a:t>DETERMINING / DEALING WITH CONSTITUENCY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ailures: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Not getting back to an incident reporter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preading misinformation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ecoming too intrusive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ausing embarrassment or leaking information without authorization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etrayal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:</a:t>
            </a:r>
            <a:br>
              <a:rPr sz="4000"/>
            </a:b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SUCCESS METRIC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ood security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No incident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akes success metrics difficult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r. of inciden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stimated financial los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lf-evaluation / questionnair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ritten or verbal reports by constituenc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verage time and manpower per incid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ocumentation by team membe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wards / other forms of external recogni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:</a:t>
            </a:r>
            <a:br>
              <a:rPr sz="4000"/>
            </a:b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ORGANIZATION OF IR TEAM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raining the team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entoring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lf-Stud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ours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Librar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Exercis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esting the team / procedur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ealing with resistanc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Budget: not a revenue source, hard to quantify impac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anagement reluctanc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rganizational resistance: rival organizations, turf warfar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Internal politic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User awarenes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:</a:t>
            </a:r>
            <a:br>
              <a:rPr sz="4000"/>
            </a:b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ORGANIZATION OF IR TEAM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External Coordina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Law Enforce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edi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ther Incident Response Team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fraguard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anaging Incident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ursty load: surviving the long hau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ssigning incident ownership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racking char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ioriz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Harassmen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Extort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Pornography Traffick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Organized Crime Activity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ubvers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Bogus financial server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Hoax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ROLES AND RESPONSIBILITIE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Incident Response Lead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Incident Handler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urity Operation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ngineering Team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Lega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LEAD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anager or Team Lead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Oversees all of the incident response rol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ssigns incidents to respective team handler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pproves closeout of incid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riefs senior management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eets with authorities if data breach involves customer dat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HANDLER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Responsible for executing IR plan and procedur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eclares when incident has occurred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reates incident handling ticke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ollects evidence related to inciden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rafts final incident report for review with the Incident Response Lead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eets with IR Lead on a monthly basis to discuss open incident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SECURITY OPERATION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aintains security tools used by Sky Solutions Saa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onitors security health of networks and server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orks with Incident Handlers during the Identify, Contain and Eradicate phas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nalyzes events to correlate information and detect anomali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eets with the incident handlers to confirm inciden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etermines if incident is authentic or false positive in collaboration with Incident Handler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Usually the first to detect if an incident has occurred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ENGINEERING TEAM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ollaborates with Incident Handlers to validate network and system evidenc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upports configuration and patch managemen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bility to pull data that can be analyzed for the Identify, Contain and Eradicate phases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evelops and deploys commercial application servic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Integrates the application services into the environmen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ssists with log message deciphering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rovides details of the incident to the Handlers and Lead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LEGAL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ommunicates with government and law enforcement agenci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ust be contacted by the Lead when legal questions surrounding incident aris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orks closely with the entire incident handling team to get a detailed picture of the inciden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rafts customer notification documents in case of data breac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QUESTIONS?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tretch/>
        </p:blipFill>
        <p:spPr>
          <a:xfrm>
            <a:off x="1905120" y="2666880"/>
            <a:ext cx="57229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Incident Response: Actions taken to deal with an incident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Oval 4"/>
          <p:cNvSpPr/>
          <p:nvPr/>
        </p:nvSpPr>
        <p:spPr>
          <a:xfrm>
            <a:off x="3200400" y="3733920"/>
            <a:ext cx="2133720" cy="2057400"/>
          </a:xfrm>
          <a:prstGeom prst="ellipse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5257800" y="5486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cident Respons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33520" y="41148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untermeasur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5410080" y="35812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tectio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Line 8"/>
          <p:cNvSpPr/>
          <p:nvPr/>
        </p:nvSpPr>
        <p:spPr>
          <a:xfrm flipV="1">
            <a:off x="3200400" y="47242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Line 9"/>
          <p:cNvSpPr/>
          <p:nvPr/>
        </p:nvSpPr>
        <p:spPr>
          <a:xfrm>
            <a:off x="4191120" y="373392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5334120" y="48006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Line 12"/>
          <p:cNvSpPr/>
          <p:nvPr/>
        </p:nvSpPr>
        <p:spPr>
          <a:xfrm flipH="1">
            <a:off x="4267080" y="579132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RATIONALE FOR</a:t>
            </a:r>
            <a:br>
              <a:rPr sz="4000"/>
            </a:b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bundance of Security-Related Vulnerabilitie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vailability of Attack Systems and Network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ctual and Potential Financial Los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otential for Adverse Media Exposu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eed for Efficienc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imitations in Intrusion Detection Capabilitie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egal Consideration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ue care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rovisions of Law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ARCHITECTURE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olicy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High-level description of essential elements of information security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o’s and Don’ts for users and sys admin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anctions for infraction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escribes security stance of the organization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anctioning of incident response capability: IR is a required function of infor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br>
              <a:rPr sz="4000"/>
            </a:b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RISK ANALYSI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nnual Loss Expectancy (ALE)\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Quantitativ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Qualitativ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br>
              <a:rPr sz="4000"/>
            </a:b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RISK ANALYSI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No generally accepted methodology for assessing risks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riteria: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onetary cost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Operations impact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Public relations fallout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mpact on human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4:55:18Z</dcterms:created>
  <dc:creator>Thomas Schwarz</dc:creator>
  <dc:description/>
  <dc:language>en-US</dc:language>
  <cp:lastModifiedBy>Michael Jones</cp:lastModifiedBy>
  <dcterms:modified xsi:type="dcterms:W3CDTF">2016-08-04T13:48:3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